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4B7-D98C-4CE6-B166-FC8B12F0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7B8-5C4D-4266-BE5D-7CD66038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E37-D898-4F2A-9D0B-C22571F2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4BF-698C-4CC2-8AD0-08C5CED1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478-115D-4CF7-98EF-C9ED61B6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49E7-0C1D-4A58-A365-F169216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669B-F588-43AC-9FC3-5C844126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6BE-7E9F-4E33-92C1-999E449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4BB0-2CAA-4C13-A550-DDC569E0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5B06-8B04-43EE-ADE8-7E5D642E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4AD8-7D14-4E8E-8E9A-4F936CE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88F-414C-4E0B-9BBA-816A1C96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0CD-6903-4A08-997E-667A63F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84F0-D5BC-4DA5-B5AA-E00E815F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21C1-BB85-451D-92A3-31B0E3F6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0AFA-D848-4193-9311-0B891DDD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CAE7-C158-4549-8317-A3255F1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B4A-1676-4403-BF1F-BE5D003F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C82-60BA-41A8-8F71-10E05339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2B4-27C2-4BDD-AA78-2605D42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019-B211-44E8-B3B2-80ABDA97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A49-255B-44DC-903A-C873230E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BA3-ADB1-473E-9298-C9D87AA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25C-E338-47C3-83A4-6DB874C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4A03A-B455-43C4-AD82-4AE459BBCF2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D17D1-86A0-4E94-A214-D2A9EEF81D24}" type="slidenum">
              <a:rPr b="0" lang="en-US" sz="1000" spc="-1" strike="noStrike">
                <a:solidFill>
                  <a:srgbClr val="2f1311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bout-germany.org/culture/tradfashion.php" TargetMode="External"/><Relationship Id="rId2" Type="http://schemas.openxmlformats.org/officeDocument/2006/relationships/hyperlink" Target="http://www.buzzle.com/articles/traditional-german-clothing.html" TargetMode="External"/><Relationship Id="rId3" Type="http://schemas.openxmlformats.org/officeDocument/2006/relationships/hyperlink" Target="http://www.tatsachen-ueber-deutschland.de/en/modern-life/main-content-10/in-fine-shape-fashion-and-design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Fashion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me: German Customs and Traditio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Juliane Baldeweg-Rau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orks Cite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0b854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bout-germany.org/culture/tradfashion.php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0b854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buzzle.com/articles/traditional-german-clothing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0b854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tatsachen-ueber-deutschland.de/en/modern-life/main-content-10/in-fine-shape-fashion-and-design.htm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Traditional German Cloth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2744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day, the term “tracht” is used to describe any garment reminiscent of the attire of rural communities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irndl is a traditional dress which was worn In the southern area of Germany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iginally, the drindl is a simplified version of the Folk costume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ress consists of a close fitting bodice worn with a blouse, a full skirt and an apron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day, the drindl is only worn at traditional events such as Oktoberfest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3516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3387600" cy="6553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495760" y="0"/>
            <a:ext cx="3648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raditional German Cloth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derhosen are knee length trousers which are are worn with rustic shoes and wool socks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derhosen were worn by Germanic men of the Alpine area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traditional style of German clothing was also worn by young German boys till the age of 16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many regions, such as Southern Germany, Bavaria and Austria, it is still acceptable to wear 'tracht' on official occasion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ke weddings, festivals, etc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duction of dirndl and lederhosen is a thriving industry in Germany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384012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59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rrent Fashion in German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German Fashion Association states that Germany is the world’s second largest exporter of fashion worldwid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many has developed an independent, self-confident style of its own.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ir fashion is fresh and wacky, elegant and purist to colorful, poetic design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everyday life, Germans tend to focus more on the down-to-earth.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rman fashion companies were some of the first to adopt “green fashion” 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409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209680" y="2895480"/>
            <a:ext cx="541044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a woma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. Lederhos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. Drind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. Trach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. Sportswe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-60804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me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. Lederhos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. Drind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. Trach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8040" indent="0"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. Sportswe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swers to Quiz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a woma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. Drind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was the traditional attire for a man?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. Lederhose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39:00Z</dcterms:created>
  <dc:creator>SCSadmin</dc:creator>
  <dc:description/>
  <dc:language>en-US</dc:language>
  <cp:lastModifiedBy>SCSadmin</cp:lastModifiedBy>
  <dcterms:modified xsi:type="dcterms:W3CDTF">2011-11-04T12:12:46Z</dcterms:modified>
  <cp:revision>6</cp:revision>
  <dc:subject/>
  <dc:title>Fashion</dc:title>
</cp:coreProperties>
</file>